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0D6-98A7-4CC4-BDB1-21D861E0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38F-3F75-4CA4-B75E-77EDC94A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E67E-E6B1-48D3-9212-7DB1E7F9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1560-749D-4CF5-B45A-2B68DC40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1BAC-7166-47E0-8BC1-828000D9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DDA0-3FEA-40B0-A3D3-A40D8FDA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7EA1-D49B-4A43-956F-4EBFE0B3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ED1A-AD66-47FE-9D0E-6ABEB2BB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1BFC-7082-4AB8-9DB1-16F3E0C4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8F27-8315-4106-8845-D294FF1F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E579-C995-4A8E-A0E6-D5ED9B0B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5C7B-C376-4A81-A8AD-EC378894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6989-CAF8-4E09-8DC8-DE7D3588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A126-4F37-4D13-A7DD-82D0A19A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FB01-12C5-4B0B-8981-2AA4E97C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33AF-7B2C-4D4E-A7C8-C47CA5A5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2A49-7D58-49AC-A29A-7C05E988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2971-A6E9-4270-9B3D-D4A0642E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3C6B-4730-43CA-9A3E-7D2B5FD5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D42-EDCF-4236-AAD5-19E2A7D4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58E-F80B-471E-B593-76E2C8FE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D1DE-8B76-4C83-A97E-3AFE0988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3C45-8BB7-41FC-B213-D606B508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E2B-D4B8-4B46-A29D-88305CE2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6C65-4955-436A-924C-AC0E08A4A475}" type="datetime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Esityksen nimi / Tekij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040D-AFA6-4544-985F-428736619FB2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29"/>
          <p:cNvGrpSpPr/>
          <p:nvPr/>
        </p:nvGrpSpPr>
        <p:grpSpPr>
          <a:xfrm>
            <a:off x="5867280" y="6324480"/>
            <a:ext cx="2773440" cy="104760"/>
            <a:chOff x="5867280" y="6324480"/>
            <a:chExt cx="2773440" cy="104760"/>
          </a:xfrm>
        </p:grpSpPr>
        <p:sp>
          <p:nvSpPr>
            <p:cNvPr id="7" name="Freeform 27"/>
            <p:cNvSpPr/>
            <p:nvPr/>
          </p:nvSpPr>
          <p:spPr>
            <a:xfrm>
              <a:off x="6978600" y="63244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28"/>
            <p:cNvSpPr/>
            <p:nvPr/>
          </p:nvSpPr>
          <p:spPr>
            <a:xfrm>
              <a:off x="5867280" y="63244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36"/>
          <p:cNvGrpSpPr/>
          <p:nvPr/>
        </p:nvGrpSpPr>
        <p:grpSpPr>
          <a:xfrm>
            <a:off x="2897280" y="5270400"/>
            <a:ext cx="3274560" cy="123840"/>
            <a:chOff x="2897280" y="5270400"/>
            <a:chExt cx="3274560" cy="123840"/>
          </a:xfrm>
        </p:grpSpPr>
        <p:sp>
          <p:nvSpPr>
            <p:cNvPr id="48" name="Freeform 34"/>
            <p:cNvSpPr/>
            <p:nvPr/>
          </p:nvSpPr>
          <p:spPr>
            <a:xfrm>
              <a:off x="4209840" y="5270400"/>
              <a:ext cx="1962000" cy="12384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5"/>
            <p:cNvSpPr/>
            <p:nvPr/>
          </p:nvSpPr>
          <p:spPr>
            <a:xfrm>
              <a:off x="2897280" y="5271480"/>
              <a:ext cx="1239480" cy="12168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11" descr="SHORT_THL_LOGO_RGB_large.jpg"/>
          <p:cNvPicPr/>
          <p:nvPr/>
        </p:nvPicPr>
        <p:blipFill>
          <a:blip r:embed="rId2"/>
          <a:stretch/>
        </p:blipFill>
        <p:spPr>
          <a:xfrm>
            <a:off x="3124080" y="4038480"/>
            <a:ext cx="2603520" cy="1063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0" y="0"/>
            <a:ext cx="9144000" cy="380988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3135-6B87-4FFF-9E49-B864F0996B18}" type="datetime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Esityksen nimi / Tekij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C892-7F4C-452C-B691-56B40F130851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4300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Radonin terveysvaikutukset Suomess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68360" y="2631600"/>
            <a:ext cx="820728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4976-DF88-412C-A599-4B8BCB483D79}" type="datetime">
              <a:rPr b="0" lang="fi-FI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Radonin terveysvaikutukset Suomessa/ Jouni Tuomisto, Einari Happonen &amp; Juha Vill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0010-9E0F-4519-B168-A95B8D18F219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banneri_7b_powerpoint2012.jpg"/>
          <p:cNvPicPr/>
          <p:nvPr/>
        </p:nvPicPr>
        <p:blipFill>
          <a:blip r:embed="rId1"/>
          <a:stretch/>
        </p:blipFill>
        <p:spPr>
          <a:xfrm>
            <a:off x="0" y="5813280"/>
            <a:ext cx="914400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7bc143"/>
                </a:solidFill>
                <a:latin typeface="Arial"/>
              </a:rPr>
              <a:t>Käyttöliittymä</a:t>
            </a: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5570-6477-4F44-9461-858DBE5CB476}" type="datetime">
              <a:rPr b="0" lang="fi-FI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1074-9C87-45A5-8266-C9E6A1C7F2C7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42764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684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07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2B3B-DD6E-4AE7-AB89-35E4F97A9F21}" type="datetime">
              <a:rPr b="0" lang="fi-FI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FFE3-DE2A-4A28-8CAE-8DA532B54AF3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755640" y="15840"/>
            <a:ext cx="77407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684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1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C8B2-36AA-4128-A962-1E413EF7AF2E}" type="datetime">
              <a:rPr b="0" lang="fi-FI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B792-29DB-4288-9B25-E852C64829DB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764388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2:33:56Z</dcterms:created>
  <dc:creator>Juha Villman</dc:creator>
  <dc:description/>
  <dc:language>en-US</dc:language>
  <cp:lastModifiedBy>Juha Villman</cp:lastModifiedBy>
  <dcterms:modified xsi:type="dcterms:W3CDTF">2012-10-26T12:38:50Z</dcterms:modified>
  <cp:revision>3</cp:revision>
  <dc:subject>suomi</dc:subject>
  <dc:title>Radonin terveysvaikutukset Suomessa</dc:title>
</cp:coreProperties>
</file>